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81916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870520"/>
            <a:ext cx="3369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7052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819160"/>
            <a:ext cx="510660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70520"/>
            <a:ext cx="10464840" cy="27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3e231a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marL="315360" indent="0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Click to edit the outline text format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1" marL="315360" indent="-315360">
              <a:spcBef>
                <a:spcPts val="2999"/>
              </a:spcBef>
              <a:buClr>
                <a:srgbClr val="3e231a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econd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2" marL="315360" indent="-315360">
              <a:spcBef>
                <a:spcPts val="2999"/>
              </a:spcBef>
              <a:buClr>
                <a:srgbClr val="3e231a"/>
              </a:buClr>
              <a:buFont typeface="Papyru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Third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3" marL="315360" indent="-315360">
              <a:spcBef>
                <a:spcPts val="2999"/>
              </a:spcBef>
              <a:buClr>
                <a:srgbClr val="3e231a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Four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4" marL="315360" indent="-315360">
              <a:spcBef>
                <a:spcPts val="2999"/>
              </a:spcBef>
              <a:buClr>
                <a:srgbClr val="3e231a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Fif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5" marL="315360" indent="-315360">
              <a:spcBef>
                <a:spcPts val="2999"/>
              </a:spcBef>
              <a:buClr>
                <a:srgbClr val="3e231a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ix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6" marL="315360" indent="-315360">
              <a:spcBef>
                <a:spcPts val="2999"/>
              </a:spcBef>
              <a:buClr>
                <a:srgbClr val="3e231a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even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88760"/>
            <a:ext cx="1046484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3e231a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18112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marL="78840" indent="0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Click to edit the outline text format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1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econd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2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Third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3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Four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4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Fif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5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ix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6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even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668016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3e231a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783540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marL="78840" indent="0">
              <a:spcBef>
                <a:spcPts val="29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Click to edit the outline text format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1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econd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2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Third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3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Four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4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Fif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5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ix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lvl="6" marL="78840" indent="-78840">
              <a:spcBef>
                <a:spcPts val="2999"/>
              </a:spcBef>
              <a:buClr>
                <a:srgbClr val="3e231a"/>
              </a:buClr>
              <a:buFont typeface="Papyrus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eventh Outline Level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9560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3e231a"/>
                </a:solidFill>
                <a:latin typeface="Papyrus"/>
              </a:rPr>
              <a:t>English</a:t>
            </a: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69720" y="518112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4400" spc="-1" strike="noStrike">
                <a:solidFill>
                  <a:srgbClr val="3e231a"/>
                </a:solidFill>
                <a:latin typeface="Papyrus"/>
              </a:rPr>
              <a:t>Nov. 12</a:t>
            </a:r>
            <a:endParaRPr b="0" lang="en-US" sz="4400" spc="-1" strike="noStrike">
              <a:solidFill>
                <a:srgbClr val="3e231a"/>
              </a:solidFill>
              <a:latin typeface="Papyrus"/>
            </a:endParaRPr>
          </a:p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4400" spc="-1" strike="noStrike">
              <a:solidFill>
                <a:srgbClr val="3e231a"/>
              </a:solidFill>
              <a:latin typeface="Papyrus"/>
            </a:endParaRPr>
          </a:p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3400" spc="-1" strike="noStrike">
                <a:solidFill>
                  <a:srgbClr val="3e231a"/>
                </a:solidFill>
                <a:latin typeface="Papyrus"/>
              </a:rPr>
              <a:t>Page 113</a:t>
            </a:r>
            <a:endParaRPr b="0" lang="en-US" sz="34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414440" y="608040"/>
            <a:ext cx="10174320" cy="5364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668016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5900" spc="-1" strike="noStrike">
                <a:solidFill>
                  <a:srgbClr val="3e231a"/>
                </a:solidFill>
                <a:latin typeface="Papyrus"/>
              </a:rPr>
              <a:t>Big idea:</a:t>
            </a:r>
            <a:endParaRPr b="0" lang="en-US" sz="59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783540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3e231a"/>
                </a:solidFill>
                <a:latin typeface="Papyrus"/>
              </a:rPr>
              <a:t>The Road To Independence</a:t>
            </a:r>
            <a:endParaRPr b="0" lang="en-US" sz="36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88760"/>
            <a:ext cx="1046484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3e231a"/>
                </a:solidFill>
                <a:latin typeface="Papyrus"/>
              </a:rPr>
              <a:t>Vocabulary </a:t>
            </a: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18760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3e231a"/>
                </a:solidFill>
                <a:latin typeface="Papyrus"/>
              </a:rPr>
              <a:t>Usurpation, endeavor, acquiesce, and rectitude</a:t>
            </a:r>
            <a:endParaRPr b="0" lang="en-US" sz="36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3e231a"/>
                </a:solidFill>
                <a:latin typeface="Papyrus"/>
              </a:rPr>
              <a:t>Literary Element</a:t>
            </a: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69800" indent="-46980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Parallelism-the phrasing of similar ideas or elements-words, phrases or sentences.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marL="469800" indent="0">
              <a:spcBef>
                <a:spcPts val="2999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marL="469800" indent="-46980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Example: "Early to bed, and early to rise, make a man healthy, wealthy and wise." 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3e231a"/>
                </a:solidFill>
                <a:latin typeface="Papyrus"/>
              </a:rPr>
              <a:t>Continued</a:t>
            </a: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69800" indent="-46980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Syllogism-presenting an argument logically with three parts: major premise, minor premise, conclusion.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marL="469800" indent="-46980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Example: all humans are mortals (major premise). Jefferson is a human being (minor) Jefferson is a mortal (conclusion)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3e231a"/>
                </a:solidFill>
                <a:latin typeface="Papyrus"/>
              </a:rPr>
              <a:t>Think:</a:t>
            </a:r>
            <a:endParaRPr b="0" lang="en-US" sz="7200" spc="-1" strike="noStrike">
              <a:solidFill>
                <a:srgbClr val="3e231a"/>
              </a:solidFill>
              <a:latin typeface="Papyru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408040"/>
            <a:ext cx="10464840" cy="66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69800" indent="-469800"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What hardships faced by the colonists does Jefferson detail?  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  <a:p>
            <a:pPr marL="469800" indent="-46980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e231a"/>
                </a:solidFill>
                <a:latin typeface="Papyrus"/>
              </a:rPr>
              <a:t>What is Jefferson's tone as he presents his argument?</a:t>
            </a:r>
            <a:endParaRPr b="0" lang="en-US" sz="3800" spc="-1" strike="noStrike">
              <a:solidFill>
                <a:srgbClr val="3e231a"/>
              </a:solidFill>
              <a:latin typeface="Papyru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gie McCall</dc:creator>
  <dc:description/>
  <dc:language>en-US</dc:language>
  <cp:lastModifiedBy>Angie McCall</cp:lastModifiedBy>
  <dcterms:modified xsi:type="dcterms:W3CDTF">2013-11-12T15:12:56Z</dcterms:modified>
  <cp:revision>2</cp:revision>
  <dc:subject/>
  <dc:title>English</dc:title>
</cp:coreProperties>
</file>